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D1C5-0FF5-4B42-A0A3-0D295A519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7F11-2A6E-4FA0-B959-4F5B551683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3EA9-C2E0-46C8-BA66-293C2A3392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: Cortney McG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isa Mon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F938-D24D-44EE-8735-DA0D7C5867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: Cortney McG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isa Mon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1ED9-DC62-4073-9B97-DC42E3D580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2674-397E-4F70-9117-3AA3A57DC0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2D4D-7D7B-4FA0-BFAF-5E5C07BBCA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D2B6-CBDC-477C-974C-592E737163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56D8-2CD8-4AC5-A749-353E1A12EF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FD12-C647-4EA9-AA09-5BD341D92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ECC5-E3B9-4C88-928D-2C3753D9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0B3D-548F-4D8E-8376-72C1AB871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2306-2C2B-4BA6-83BA-10CDD0ED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8894-4107-44B6-B112-EA6D1110E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D382-33EE-45E7-A016-D45BE82A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5FE6-736F-4FDD-A6D7-794C4452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EC40-CBEA-49C8-96A6-6A71DF19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F146-098C-4B9E-8F06-FE832B95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D470-E589-4D6E-9389-73B602F1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F7A4-F943-4466-9DDB-B13A8B19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768B-F105-4935-90E8-92DA9166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77A4-51B5-426F-860F-69E417CB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84D9-33E4-4C7E-9571-AAD06EDA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E152-46FB-4889-AABF-300ED9B5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FC84-E0C5-4FD5-91A2-DEC54BB1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30488-5178-46A7-9281-3A05AD115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375E-C28C-4045-8898-BE27617A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2C77-A9DA-423E-9AD9-6034D82A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FEB5-CEB3-4657-AB74-887E3015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0540-5B7B-4A31-BFA7-AF3C6305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F48C-B910-4807-9B8E-1F58456D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CDDB-35E7-4152-BA55-584D24E6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EDFC-8D89-486A-A19F-4D1A3DD4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D7A8-C4DA-4907-AF76-620CCA77D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27E3-1049-4D45-A542-2645CDF83E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Times New Roman"/>
              </a:rPr>
              <a:t>Conjugating</a:t>
            </a:r>
            <a:br>
              <a:rPr sz="10600"/>
            </a:br>
            <a:r>
              <a:rPr b="0" lang="en-US" sz="10600" spc="-1" strike="noStrike">
                <a:solidFill>
                  <a:srgbClr val="ffffff"/>
                </a:solidFill>
                <a:latin typeface="Times New Roman"/>
              </a:rPr>
              <a:t>Verbs </a:t>
            </a:r>
            <a:br>
              <a:rPr sz="10600"/>
            </a:b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in the </a:t>
            </a:r>
            <a:br>
              <a:rPr sz="8800"/>
            </a:b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Future Tense</a:t>
            </a:r>
            <a:endParaRPr b="0" lang="en-US" sz="8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The Future Tense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0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80880" y="1600200"/>
            <a:ext cx="85345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future tense is used to indicate an action that </a:t>
            </a: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will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shall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, or </a:t>
            </a: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is going to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ake place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 The future tense is also used to express </a:t>
            </a: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possibility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probability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in the </a:t>
            </a: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presen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teps to conjugate in the Future </a:t>
            </a:r>
            <a:r>
              <a:rPr b="0" lang="en-US" sz="10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457200" y="167652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stem is the entire infinitiv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e...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habla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 Add the regular future ending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ff"/>
                </a:solidFill>
                <a:latin typeface="Times New Roman"/>
              </a:rPr>
              <a:t>AR, ER IR Endings</a:t>
            </a:r>
            <a:endParaRPr b="0" lang="en-US" sz="6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447920" y="1447920"/>
            <a:ext cx="6933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To describe something that is  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going to happen in the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future.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54"/>
          <p:cNvSpPr/>
          <p:nvPr/>
        </p:nvSpPr>
        <p:spPr>
          <a:xfrm>
            <a:off x="2803680" y="3622680"/>
            <a:ext cx="397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55"/>
          <p:cNvSpPr/>
          <p:nvPr/>
        </p:nvSpPr>
        <p:spPr>
          <a:xfrm>
            <a:off x="2209680" y="3657600"/>
            <a:ext cx="5791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é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	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	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emos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59"/>
          <p:cNvSpPr/>
          <p:nvPr/>
        </p:nvSpPr>
        <p:spPr>
          <a:xfrm>
            <a:off x="1981080" y="449568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á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60"/>
          <p:cNvSpPr/>
          <p:nvPr/>
        </p:nvSpPr>
        <p:spPr>
          <a:xfrm>
            <a:off x="1889280" y="5334120"/>
            <a:ext cx="611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á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	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	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    á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Practice Conjugat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523880" y="2514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1143000" y="2209680"/>
            <a:ext cx="8001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Conjugate the following regular verbs 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in the future tense: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estudiar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hablar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sacar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comer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vivir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escribir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manejar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leer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repasar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1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ff"/>
                </a:solidFill>
                <a:latin typeface="Times New Roman"/>
              </a:rPr>
              <a:t>Irregular Verbs </a:t>
            </a:r>
            <a:endParaRPr b="0" lang="en-US" sz="6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447920" y="1219320"/>
            <a:ext cx="693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verbs have irregular stems but regular endings in the future tens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2803680" y="3622680"/>
            <a:ext cx="397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1066680" y="266688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cabe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br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quere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err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deci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r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sabe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br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habe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br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salir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ldr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hacer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r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tene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ndr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pode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dr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vale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aldr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pone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ndr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veni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endr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ff"/>
                </a:solidFill>
                <a:latin typeface="Times New Roman"/>
              </a:rPr>
              <a:t>Sentence Examples</a:t>
            </a:r>
            <a:endParaRPr b="0" lang="en-US" sz="6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905120" y="23623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990720" y="1600200"/>
            <a:ext cx="800100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Hablar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 con mi hermana mañana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 will talk with my sister tomorrow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an bailará el lunes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Juan will dance on Monday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maremos los refrescos a la fiesta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You and I  will drink the sodas at the party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1584360" y="1870200"/>
            <a:ext cx="70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ff"/>
                </a:solidFill>
                <a:latin typeface="Times New Roman"/>
              </a:rPr>
              <a:t>Sentence Examples (Cont.)</a:t>
            </a:r>
            <a:endParaRPr b="0" lang="en-US" sz="6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584360" y="2022480"/>
            <a:ext cx="21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1508040" y="2057400"/>
            <a:ext cx="656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508040" y="2022480"/>
            <a:ext cx="6645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143000" y="2590920"/>
            <a:ext cx="800100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Limpiarán la casa el martes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They will clean the house on Tuesday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Cantaremos en el gimnasio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e will sing in the gym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1T04:36:59Z</dcterms:created>
  <dc:creator>Socorro McGerty</dc:creator>
  <dc:description/>
  <dc:language>en-US</dc:language>
  <cp:lastModifiedBy>Maple Lake</cp:lastModifiedBy>
  <dcterms:modified xsi:type="dcterms:W3CDTF">2009-04-15T16:03:46Z</dcterms:modified>
  <cp:revision>28</cp:revision>
  <dc:subject/>
  <dc:title>Conjugating –AR Verbs in the Preterite Tense</dc:title>
</cp:coreProperties>
</file>